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1FD0-6BC9-4BDC-8DF2-292D13A651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y owls Artic Tund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conda. Found in the thick forests of 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per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se Artic Tund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gar l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ad runner North Amer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ur from 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8DB6-49AF-4410-BA93-2D9C9326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ED4-B87F-451A-BB1B-9B61793A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E05-A2C3-495E-BB31-F74103AC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32B-D4E7-436A-9E44-2E1FA919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F0E-D4BD-4B9A-8DCE-5F73312F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D52-4218-4F1C-A5D9-0DF85154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477-F7B9-416A-9C9D-60937857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379-0198-4814-AE96-F5F563D8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E24-2DE8-4135-A094-91899D22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C18-C6CF-4D96-9DDB-19A90433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2DB-4FE6-4100-BB9F-15A6DBB6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71F-E21C-430C-8593-D077772E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730F-0769-4D05-A1E3-7AF806351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Do these animals live in a hot or a cold place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dminster Dow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Facul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88000" y="5084640"/>
            <a:ext cx="2305080" cy="1536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39640" y="3933720"/>
            <a:ext cx="1600200" cy="2400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12000" y="6206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B1b 5.1 Adaptation in anim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3888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snowy owl"/>
          <p:cNvPicPr/>
          <p:nvPr/>
        </p:nvPicPr>
        <p:blipFill>
          <a:blip r:embed="rId1"/>
          <a:stretch/>
        </p:blipFill>
        <p:spPr>
          <a:xfrm>
            <a:off x="0" y="-476280"/>
            <a:ext cx="9144000" cy="904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yellow anaconda"/>
          <p:cNvPicPr/>
          <p:nvPr/>
        </p:nvPicPr>
        <p:blipFill>
          <a:blip r:embed="rId1"/>
          <a:stretch/>
        </p:blipFill>
        <p:spPr>
          <a:xfrm>
            <a:off x="93600" y="-1179360"/>
            <a:ext cx="8047080" cy="82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264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emperor goose"/>
          <p:cNvPicPr/>
          <p:nvPr/>
        </p:nvPicPr>
        <p:blipFill>
          <a:blip r:embed="rId1"/>
          <a:stretch/>
        </p:blipFill>
        <p:spPr>
          <a:xfrm>
            <a:off x="0" y="-1227240"/>
            <a:ext cx="9396360" cy="915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33760" y="571680"/>
            <a:ext cx="3876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684360" y="0"/>
            <a:ext cx="9828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33760" y="571680"/>
            <a:ext cx="3876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ring-tailed lemur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955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21:16:18Z</dcterms:created>
  <dc:creator>John</dc:creator>
  <dc:description/>
  <dc:language>en-US</dc:language>
  <cp:lastModifiedBy>stbanksg</cp:lastModifiedBy>
  <dcterms:modified xsi:type="dcterms:W3CDTF">2006-12-11T09:36:10Z</dcterms:modified>
  <cp:revision>5</cp:revision>
  <dc:subject/>
  <dc:title>Do these animals live in a hot or a cold place.?</dc:title>
</cp:coreProperties>
</file>